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B3E-7052-4CC7-BBF0-225C9070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282-1E41-48F8-BA75-73EC3B9E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8DD-18B6-40E4-BF5D-C11410E3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B91-4F93-4C31-8376-786EE603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715-5514-4322-AD5A-D45CC2A8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877-1477-453A-B003-CA30D0B8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F80-99F2-4619-ABD2-7256D01E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F2D-8E69-4932-A739-BCB7212B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EAE-4C50-440F-8886-08D1350F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430-18B9-4D0C-B657-7DB7A8E3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93C-4E45-4111-97AD-C94F2A9A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23ED-07C8-449E-B87F-1FA416EB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D5FA-5A4D-409D-AC2B-BB6D091CE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pen Archives Metadata Harvesting Protocol Compliant Repository for the American Memory Online Collec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I Open Meeting, Washington,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23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e Woodward, Library of Con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as it implemen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052720" y="1757520"/>
          <a:ext cx="6059520" cy="4467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2720" y="1757520"/>
                    <a:ext cx="60595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the level of effo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i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the protocol requests and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more diffic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ng and organizing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halleng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(format crosswalk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ing data for trans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o from 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 to include mor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 non-MARC col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 with other metadata formats, i.e., LC’s MARC21 xml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to refine MARC mappings and character reference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e flow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his important for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Online Collec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LC as data provid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 Memory content could be made more accessible through new value-added services that utilize harvested metadata, e.g., search services or specially targeted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harvesting would be enabled for other groups such as researchers and edu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his important for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Online Collec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with LC as a service prov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content into American Memory could be simplified and standard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ve collection development would be less labor int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his important for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Online Collec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tion in the development and testing of OAI has provided valuable practical experience with wide applicability, i.e.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of MARC8 character encoding to UTF-8 w/ Unicode character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 -&gt; dc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 -&gt; xml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ollections were us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merican Memory (alpha test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Collections:1500-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cu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p Coll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mericana and Cartographic Treasures of the Library of Congress. These images were created from maps and atlases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ce Instruction Manuals: ca. 1490-19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 American Ballroom Compan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s a collection of over two hundred social dance manuals at the Library of Con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ollections were us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haracteris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data stores used for AM web site and O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-level MARC descriptive rec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this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data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MARC field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ting character set challen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technical infra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, OS and systems softw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 rs6000, AIX, Ap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softw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erl script for handling requests via C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AN stuff: cgi.pm, sgmls.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MARC pars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 of existing MARC8 character se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perl script to create index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as it implemen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from the American Memory online application, but built on same data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mple index of identifiers, status, and dates was bui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dentifiers becomes an “index only”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dynamic access to MARC records in flat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as it implemen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translation from M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 is a popular storage format at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for updating/adding metadata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for adjusting map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mption token &amp; “retry after”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sholds, time-to-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ed results in a variety of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sein Suleman’s excellent repository explor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V from w3c.org, some XML S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21:13:22Z</dcterms:created>
  <dc:creator>loc</dc:creator>
  <dc:description/>
  <dc:language>en-US</dc:language>
  <cp:lastModifiedBy>Administrator</cp:lastModifiedBy>
  <cp:lastPrinted>2001-01-22T22:58:51Z</cp:lastPrinted>
  <dcterms:modified xsi:type="dcterms:W3CDTF">2001-01-23T16:47:09Z</dcterms:modified>
  <cp:revision>30</cp:revision>
  <dc:subject/>
  <dc:title>Open Archives Initiative: Alpha test experiences with the American Memory online collections. </dc:title>
</cp:coreProperties>
</file>